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1.jpeg" ContentType="image/jpeg"/>
  <Override PartName="/ppt/media/image9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5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F6591-C884-4DCF-9C4B-A5057804CC8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Номер слайда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AC61B-7D17-42C7-8B32-946F29127EE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08080" y="801720"/>
            <a:ext cx="5345280" cy="40100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400" spc="-1" strike="noStrike">
              <a:solidFill>
                <a:srgbClr val="000000"/>
              </a:solidFill>
              <a:latin typeface="Calibri"/>
              <a:ea typeface="Microsoft YaHe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E900-4A69-4ED0-80B8-BA173AF16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7865-FC98-4682-8AAD-838375059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A317-A285-499C-9938-15D7A6272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E434-E99B-4913-8773-CE50C6E79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97CE5-6E5C-496C-9914-D4CC875C7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654AA-D949-43D6-ABAB-372C7AA66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1F230-4F2B-4BFC-9D9A-BA0265854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AA4D5-392B-46E7-BD9D-D4D3D9206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EF328-2E0D-4C18-AA5F-DDCFD49FC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8E283-17CD-42E0-9352-D10D8FBE9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515C0-257A-4196-BE0E-82C28F7DA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E868-48BC-4BDA-B811-40D7BFEB0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ECE58-9BF9-4CEE-9812-1918F3CEC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9133C-2E21-418B-9355-C89CB99C1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A3D5A-A48F-4E57-9D0A-4E396A8D1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B0DC1-9C06-42B0-8719-BFB2493F6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581E4-EE9A-45A6-BDC6-6FC05BC07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D219-287B-4F04-A412-5CEFA8FC5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FE7B-CAEB-4AFE-8048-B95073015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AC8E-4EEC-43C9-AE58-3CD568EEE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4265-D998-499D-8A61-9B0C5190B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CCED-E377-40FE-BD67-580E50597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A01C-AB29-475E-977E-D65C4CF72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E2ED-173F-410C-A763-4A49BEF0F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AC24E-3579-43DD-B9FB-43451E14D3F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6" descr="post-279854-1298288370.png"/>
          <p:cNvPicPr/>
          <p:nvPr/>
        </p:nvPicPr>
        <p:blipFill>
          <a:blip r:embed="rId3"/>
          <a:stretch/>
        </p:blipFill>
        <p:spPr>
          <a:xfrm>
            <a:off x="7500960" y="-428760"/>
            <a:ext cx="1643040" cy="164304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7" descr="post-279854-1298288370.png"/>
          <p:cNvPicPr/>
          <p:nvPr/>
        </p:nvPicPr>
        <p:blipFill>
          <a:blip r:embed="rId4"/>
          <a:stretch/>
        </p:blipFill>
        <p:spPr>
          <a:xfrm>
            <a:off x="0" y="214200"/>
            <a:ext cx="2357280" cy="207180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8" descr="97e6b01896c7.png"/>
          <p:cNvPicPr/>
          <p:nvPr/>
        </p:nvPicPr>
        <p:blipFill>
          <a:blip r:embed="rId5"/>
          <a:stretch/>
        </p:blipFill>
        <p:spPr>
          <a:xfrm rot="20340000">
            <a:off x="-628200" y="-348840"/>
            <a:ext cx="3330360" cy="26812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7C7D4-954B-493E-B515-DB7766C3CAE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87440" y="479736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ОБРЫЙ ДЕНЬ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971640" y="549360"/>
            <a:ext cx="7345440" cy="4464000"/>
          </a:xfrm>
          <a:prstGeom prst="rect">
            <a:avLst/>
          </a:prstGeom>
          <a:ln w="0">
            <a:noFill/>
          </a:ln>
        </p:spPr>
      </p:pic>
      <p:sp>
        <p:nvSpPr>
          <p:cNvPr id="94" name="TextBox 3"/>
          <p:cNvSpPr/>
          <p:nvPr/>
        </p:nvSpPr>
        <p:spPr>
          <a:xfrm flipV="1">
            <a:off x="5796000" y="1708560"/>
            <a:ext cx="2921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r>
              <a:rPr b="1" lang="ru-RU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инамическая пауза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Прямоугольник 1"/>
          <p:cNvSpPr/>
          <p:nvPr/>
        </p:nvSpPr>
        <p:spPr>
          <a:xfrm>
            <a:off x="1692360" y="1197000"/>
            <a:ext cx="7704000" cy="33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лгоритм определения части реч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Что обозначае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На какой вопрос отвечае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Какой частью речи являетс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Прямоугольник 1"/>
          <p:cNvSpPr/>
          <p:nvPr/>
        </p:nvSpPr>
        <p:spPr>
          <a:xfrm>
            <a:off x="900000" y="476280"/>
            <a:ext cx="7775640" cy="698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5000b"/>
                </a:solidFill>
                <a:latin typeface="Times New Roman"/>
                <a:ea typeface="Times New Roman"/>
              </a:rPr>
              <a:t>1.Напишите над словами, какую часть речи они       обозначаю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5000b"/>
                </a:solidFill>
                <a:latin typeface="Times New Roman"/>
                <a:ea typeface="Times New Roman"/>
              </a:rPr>
              <a:t>2.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дчеркните  грамматическую основ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ьёт сильный дождь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Прямоугольник 3"/>
          <p:cNvSpPr/>
          <p:nvPr/>
        </p:nvSpPr>
        <p:spPr>
          <a:xfrm>
            <a:off x="1285920" y="1785960"/>
            <a:ext cx="721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Льёт</a:t>
            </a:r>
            <a:r>
              <a:rPr b="1" lang="ru-RU" sz="5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сильный </a:t>
            </a:r>
            <a:r>
              <a:rPr b="1" lang="ru-RU" sz="54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дождь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5"/>
          <p:cNvSpPr/>
          <p:nvPr/>
        </p:nvSpPr>
        <p:spPr>
          <a:xfrm>
            <a:off x="1928880" y="1571760"/>
            <a:ext cx="9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Г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6"/>
          <p:cNvSpPr/>
          <p:nvPr/>
        </p:nvSpPr>
        <p:spPr>
          <a:xfrm>
            <a:off x="4143240" y="1643040"/>
            <a:ext cx="107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При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7"/>
          <p:cNvSpPr/>
          <p:nvPr/>
        </p:nvSpPr>
        <p:spPr>
          <a:xfrm>
            <a:off x="6643800" y="1714680"/>
            <a:ext cx="142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Сущ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1042920" y="692280"/>
            <a:ext cx="8229600" cy="514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      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лгоритм   игр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1.Задать к слову вопрос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2.Определить ,что обозначает слово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3.Назвать часть речи , к которо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относится это слово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429080" y="857160"/>
            <a:ext cx="1857600" cy="28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4" descr="C:\Users\Дом\Desktop\крас.jpg"/>
          <p:cNvPicPr/>
          <p:nvPr/>
        </p:nvPicPr>
        <p:blipFill>
          <a:blip r:embed="rId1"/>
          <a:stretch/>
        </p:blipFill>
        <p:spPr>
          <a:xfrm>
            <a:off x="857160" y="4214880"/>
            <a:ext cx="2571840" cy="2214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https://avatars.mds.yandex.net/i?id=e9abe8167a6aa5060e170ea4489dced7e440251f-5103223-images-thumbs&amp;n=13"/>
          <p:cNvPicPr/>
          <p:nvPr/>
        </p:nvPicPr>
        <p:blipFill>
          <a:blip r:embed="rId2"/>
          <a:stretch/>
        </p:blipFill>
        <p:spPr>
          <a:xfrm>
            <a:off x="1143000" y="2214720"/>
            <a:ext cx="1928880" cy="20476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8" descr="https://avatars.mds.yandex.net/i?id=8496cb8eeae7e52e1d2605b4df337fbbeceb2418-6307799-images-thumbs&amp;n=13"/>
          <p:cNvPicPr/>
          <p:nvPr/>
        </p:nvPicPr>
        <p:blipFill>
          <a:blip r:embed="rId3"/>
          <a:stretch/>
        </p:blipFill>
        <p:spPr>
          <a:xfrm>
            <a:off x="928800" y="428760"/>
            <a:ext cx="2428920" cy="2000160"/>
          </a:xfrm>
          <a:prstGeom prst="rect">
            <a:avLst/>
          </a:prstGeom>
          <a:ln w="0">
            <a:noFill/>
          </a:ln>
        </p:spPr>
      </p:pic>
      <p:sp>
        <p:nvSpPr>
          <p:cNvPr id="129" name="TextBox 6"/>
          <p:cNvSpPr/>
          <p:nvPr/>
        </p:nvSpPr>
        <p:spPr>
          <a:xfrm>
            <a:off x="3643200" y="642960"/>
            <a:ext cx="4714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b050"/>
                </a:solidFill>
                <a:latin typeface="Arial"/>
              </a:rPr>
              <a:t>Всё понял, смогу помочь другим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10"/>
          <p:cNvSpPr/>
          <p:nvPr/>
        </p:nvSpPr>
        <p:spPr>
          <a:xfrm>
            <a:off x="3643200" y="2927520"/>
            <a:ext cx="45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46c0a"/>
                </a:solidFill>
                <a:latin typeface="Arial"/>
              </a:rPr>
              <a:t>Понял, но не смогу помочь другим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11"/>
          <p:cNvSpPr/>
          <p:nvPr/>
        </p:nvSpPr>
        <p:spPr>
          <a:xfrm>
            <a:off x="3571920" y="4857840"/>
            <a:ext cx="486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Не понял, мне нужна помощь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Box 2"/>
          <p:cNvSpPr/>
          <p:nvPr/>
        </p:nvSpPr>
        <p:spPr>
          <a:xfrm>
            <a:off x="3132000" y="1413000"/>
            <a:ext cx="46022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Всегда он в работе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Когда говорим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А отдыхает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Когда мы молчи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7"/>
          <p:cNvSpPr/>
          <p:nvPr/>
        </p:nvSpPr>
        <p:spPr>
          <a:xfrm>
            <a:off x="3635280" y="1042920"/>
            <a:ext cx="34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гад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ЯЗЫ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571680" y="5214960"/>
            <a:ext cx="8229600" cy="8827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" descr="https://i.pinimg.com/originals/ee/8f/6e/ee8f6eb9d5532b59d810c324a1a0573f.jpg"/>
          <p:cNvPicPr/>
          <p:nvPr/>
        </p:nvPicPr>
        <p:blipFill>
          <a:blip r:embed="rId2"/>
          <a:stretch/>
        </p:blipFill>
        <p:spPr>
          <a:xfrm>
            <a:off x="1143000" y="3786120"/>
            <a:ext cx="2857680" cy="17859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https://avatars.mds.yandex.net/i?id=84db158f5e7d8f292f32bb3fbda509cc5a90f1e8-7679814-images-thumbs&amp;n=13"/>
          <p:cNvPicPr/>
          <p:nvPr/>
        </p:nvPicPr>
        <p:blipFill>
          <a:blip r:embed="rId3"/>
          <a:stretch/>
        </p:blipFill>
        <p:spPr>
          <a:xfrm>
            <a:off x="1428840" y="1143000"/>
            <a:ext cx="2571840" cy="21430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https://avatars.mds.yandex.net/i?id=937c6ae515c159bca527fa705b50efe4d2b3b1c3-7999331-images-thumbs&amp;n=13"/>
          <p:cNvPicPr/>
          <p:nvPr/>
        </p:nvPicPr>
        <p:blipFill>
          <a:blip r:embed="rId4"/>
          <a:stretch/>
        </p:blipFill>
        <p:spPr>
          <a:xfrm>
            <a:off x="5286240" y="642960"/>
            <a:ext cx="3071880" cy="19764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Картинки пламя огня."/>
          <p:cNvPicPr/>
          <p:nvPr/>
        </p:nvPicPr>
        <p:blipFill>
          <a:blip r:embed="rId5"/>
          <a:stretch/>
        </p:blipFill>
        <p:spPr>
          <a:xfrm>
            <a:off x="4857840" y="2857680"/>
            <a:ext cx="304776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55640" y="19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, ЯЗЫКОМ, ТОРОПИСЬ, СПЕШИ, ДЕЛОМ</a:t>
            </a:r>
            <a:br>
              <a:rPr sz="48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6840" y="1600200"/>
            <a:ext cx="9115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00000"/>
                </a:solidFill>
                <a:latin typeface="Calibri"/>
              </a:rPr>
              <a:t>Не спеши языком,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00000"/>
                </a:solidFill>
                <a:latin typeface="Calibri"/>
              </a:rPr>
              <a:t>торопись делом.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Box 3"/>
          <p:cNvSpPr/>
          <p:nvPr/>
        </p:nvSpPr>
        <p:spPr>
          <a:xfrm>
            <a:off x="1045080" y="884160"/>
            <a:ext cx="2573640" cy="2050200"/>
          </a:xfrm>
          <a:prstGeom prst="pie">
            <a:avLst/>
          </a:prstGeom>
          <a:solidFill>
            <a:srgbClr val="ffffff"/>
          </a:solidFill>
          <a:ln cap="sq"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лес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снежинка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волк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4"/>
          <p:cNvSpPr/>
          <p:nvPr/>
        </p:nvSpPr>
        <p:spPr>
          <a:xfrm>
            <a:off x="3824280" y="1557360"/>
            <a:ext cx="2101320" cy="2050200"/>
          </a:xfrm>
          <a:prstGeom prst="pie">
            <a:avLst/>
          </a:prstGeom>
          <a:solidFill>
            <a:srgbClr val="ffffff"/>
          </a:solidFill>
          <a:ln cap="sq"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тёмный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лёгкая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яркое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5"/>
          <p:cNvSpPr/>
          <p:nvPr/>
        </p:nvSpPr>
        <p:spPr>
          <a:xfrm>
            <a:off x="6194160" y="2492280"/>
            <a:ext cx="2241720" cy="2050200"/>
          </a:xfrm>
          <a:prstGeom prst="pie">
            <a:avLst/>
          </a:prstGeom>
          <a:solidFill>
            <a:srgbClr val="ffffff"/>
          </a:solidFill>
          <a:ln cap="sq"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зеленеет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падает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светит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" descr="D:\клипарты\природа\0_c2e0c_221cc048_S.png"/>
          <p:cNvPicPr/>
          <p:nvPr/>
        </p:nvPicPr>
        <p:blipFill>
          <a:blip r:embed="rId1">
            <a:lum bright="-50000"/>
          </a:blip>
          <a:stretch/>
        </p:blipFill>
        <p:spPr>
          <a:xfrm>
            <a:off x="7236000" y="4797360"/>
            <a:ext cx="1577880" cy="1727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D:\клипарты\цифры буквы\цифры запятые точки\0_4bc3a_c392e0c9_L.png"/>
          <p:cNvPicPr/>
          <p:nvPr/>
        </p:nvPicPr>
        <p:blipFill>
          <a:blip r:embed="rId2">
            <a:lum bright="-50000"/>
          </a:blip>
          <a:stretch/>
        </p:blipFill>
        <p:spPr>
          <a:xfrm>
            <a:off x="6948360" y="573120"/>
            <a:ext cx="1224000" cy="122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"/>
          <p:cNvGraphicFramePr/>
          <p:nvPr/>
        </p:nvGraphicFramePr>
        <p:xfrm>
          <a:off x="1547640" y="1268280"/>
          <a:ext cx="6337440" cy="4175280"/>
        </p:xfrm>
        <a:graphic>
          <a:graphicData uri="http://schemas.openxmlformats.org/drawingml/2006/table">
            <a:tbl>
              <a:tblPr/>
              <a:tblGrid>
                <a:gridCol w="1644840"/>
                <a:gridCol w="1787400"/>
                <a:gridCol w="2905200"/>
              </a:tblGrid>
              <a:tr h="1800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361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редмет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361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ризнаков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361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361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редмет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361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действ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361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361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редмет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93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361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то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ts val="1361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акой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ts val="1361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что делает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93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361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что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ts val="1361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акая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ts val="1361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что сделают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9400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ts val="1361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ts val="1361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акое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ts val="1361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что делают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9364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ts val="1361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ts val="1361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акие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ts val="1361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что делали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12" name="TextBox 3"/>
          <p:cNvSpPr/>
          <p:nvPr/>
        </p:nvSpPr>
        <p:spPr>
          <a:xfrm>
            <a:off x="3189240" y="765000"/>
            <a:ext cx="25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лова -наз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Прямоугольник 1"/>
          <p:cNvSpPr/>
          <p:nvPr/>
        </p:nvSpPr>
        <p:spPr>
          <a:xfrm>
            <a:off x="3419640" y="1773360"/>
            <a:ext cx="4465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Части речи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900000" y="1557360"/>
          <a:ext cx="7488360" cy="4032360"/>
        </p:xfrm>
        <a:graphic>
          <a:graphicData uri="http://schemas.openxmlformats.org/drawingml/2006/table">
            <a:tbl>
              <a:tblPr/>
              <a:tblGrid>
                <a:gridCol w="2880000"/>
                <a:gridCol w="2663640"/>
                <a:gridCol w="1944720"/>
              </a:tblGrid>
              <a:tr h="10922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361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редмет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361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ризнак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361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361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редмет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361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действий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361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361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редмет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56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361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то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361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акой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361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что делает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36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361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что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361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акая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361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что сделают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361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361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акое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361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что делают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36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361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361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акие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361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что делали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83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ИМЯ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СУЩЕСТВИТЕЛЬНО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361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361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ИМ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361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361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РИЛАГАТЕЛЬНО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361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361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ГЛАГО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361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5" name="Rectangle 4"/>
          <p:cNvSpPr/>
          <p:nvPr/>
        </p:nvSpPr>
        <p:spPr>
          <a:xfrm>
            <a:off x="3089520" y="804960"/>
            <a:ext cx="274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лова - наз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2T23:19:04Z</dcterms:created>
  <dc:creator>natasha23</dc:creator>
  <dc:description/>
  <dc:language>en-US</dc:language>
  <cp:lastModifiedBy>Дом</cp:lastModifiedBy>
  <dcterms:modified xsi:type="dcterms:W3CDTF">2023-02-05T11:41:49Z</dcterms:modified>
  <cp:revision>51</cp:revision>
  <dc:subject/>
  <dc:title>Слайд 1</dc:title>
</cp:coreProperties>
</file>